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4D9-9D78-4E39-9245-FD79223F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19B-C8FD-471F-860A-F364221D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3EB8A-A671-4CEC-9DF1-4742148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8663E-084A-492A-B49A-9F2398C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A111F-57F1-4849-90E7-08312FA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877D-D978-42AB-97C2-1D4B4D9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5B4E-793A-4499-B379-AB977E3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92412-CDF1-4CF9-A4C2-943D77BB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2E3C-14D0-4805-90A1-7169A86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D5AB-7D04-4B1E-84F1-79FE86B8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C043-7831-4ADA-B570-3F7CC32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5DEC-D852-4577-8DD7-80B24679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417-F61A-45A5-B1D9-2834DC6E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15BCA-6B0A-4F18-A6CC-86CF86A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2FA9A-49D6-43E3-AFBB-EF87DD5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72D2C-2B70-4AE4-8A0B-F4FD462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ECB7B-C085-4F61-B4F3-61EE5F6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24EC8-6A76-4F89-B030-D09A820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30C7D-114C-44E4-8D60-C185D80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5F634-8339-47FF-B8D6-539870F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2CD8C-91D9-4E59-80C8-3381116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B444A-05ED-48A5-98F8-FB368E5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66B28-7087-428E-8CE0-7DB55238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EBE-CF3A-4C22-8B4D-4809D7CF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C3B02-EB43-44B3-A4AF-B423E44D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9EC2-DC7D-4CE4-9FB4-3E1E531B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51378-F98C-4B69-93C6-C7F9A5E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E40F8-86D7-427A-9A46-8C382FA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C2A0-E548-4DDC-80AE-0343AC18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3C637-FBE6-453C-92E6-4A557CFA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0A389-7635-4E2F-9E90-094C3EB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B614-97CA-4FDC-A50C-31C5C20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63B6-25AB-4796-8AEF-B74FD00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ED487-41C0-4069-9863-43E772D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497-C891-41ED-80A3-85696565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19F2-38E6-4F2C-8E50-ED2B546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92B26-52EE-488D-9E87-F7C81A80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0E69D-8E31-4EE8-93BE-9E955DE1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9B7E0-5BDC-4897-B031-78F607DF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B1848-22AA-4089-8044-EA5937C0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52187-DB3B-44ED-9923-110D525B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CDE7E-E046-4071-A256-9EF0E28E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FA383-FC85-4EB6-8AB9-23BF05EC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51D65-7D1E-4CC4-86C6-63039BCB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A054F-1F66-4469-A74D-30CB2D4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8719-D555-423D-81BC-005DC859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1BC8E-BE4A-48A6-8299-59B819C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E08EA-DD91-4536-87F7-222565F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5432A-6139-42AA-A9BF-4715911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A7104-D2A6-4BEA-A46F-2AAB6DDB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DA116-2535-4234-AD5C-560F9A39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F368E-5E53-442C-8ABE-6BAC55DE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3559F-3E81-4106-BDE1-505EC9D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ED649-ACD3-4C42-90C7-78E8FA1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8EDBD-E573-441E-90C9-F816AD0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20BE6-E077-4BED-B55A-E35E4324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A85-7D3B-4515-AA62-96191B7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CC502-46FE-49D3-8400-1B6AD8A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F0184-57A0-453C-8244-3A5356B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FE8F-A3F5-44CC-89F2-A1643FFD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8508-2EB1-4808-B82A-04B8E41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1F92F-AD78-46DD-AC55-62B25E9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FC873-9C1D-4570-A4AB-3BCBF0C5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6C753-ADB9-4AF4-8437-C2C8E8C4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89363-8E01-469D-8024-9694813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EFD41-2936-4710-9CF0-A32F9A1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B95AE-4D16-41F3-AC09-D84122AC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3478-3749-422F-9E64-6B3A69D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CA1E1-20BB-4C13-A402-D57E57D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A3CAE-00BB-4874-92FC-7EE74E1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1E22D-58B7-49C9-8692-8686BF4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1DC0A-F078-42CF-9362-B63F9E6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CEE25-D54E-41EE-8C2B-A272D90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EFF9E-F153-4633-A346-C44F7C1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8EA7A-5085-4C50-B800-D04AD34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6F775-7ACA-4340-AE76-6CA0BB5C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46105-1EC1-4286-8A70-E016AF18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4F893-E701-4C07-98D3-E443208E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A8CA-C16E-4FEB-A802-2B5DD139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972C9-5155-42EE-9488-4D5BEC5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9466C-419B-4C35-80AE-BC947D55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513EC-578F-4A9B-9BBD-6D73ADE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82A11-6A8C-4685-B2E5-1D98FEC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19E45-3BC5-4917-9CA2-9840D6A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0F95B-59E0-4ACB-8F47-404DA57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685B6-23CD-4A1B-A28F-4AA17EC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7D08F-4E06-4031-AE53-6090B32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451B2-D499-4B00-BC69-92F9E2F7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DC797-3022-4319-A275-A2FF398F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E35-20E5-47B3-BD30-522E128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A893D-0E63-4D8E-8C62-C91DD75E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B819F-A100-4451-9823-8CD371E1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88E84-7311-44F0-B895-C70CD509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09076-FBC1-49D8-952C-65AD26B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79ECF-70F9-4E11-AB9C-84D6E6CA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EA40D-4309-47C0-98F2-306385D2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5F604-97A4-4EA2-9D32-53859A4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C732B-C475-43DF-8E2B-8FD183A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1BADF-774D-46DD-8D68-53F5B6E7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07CC9-0164-48B2-A24E-0B5D929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1A49-DD1B-4241-A111-1A774FC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28950-4842-4703-AAE5-EB97352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3D70C-C17C-4D0E-8C4D-4308C0BF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DEEB3-FBF7-4D47-9B7D-ADFFBD8E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A6470-D904-4645-989B-504131E7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2B7DB-DEF1-4694-AC7F-4EF1D1C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1D896-2C82-4E18-9702-C5ED4EBA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9CAB4-9F8F-41C5-90BE-B284E1E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478AA-95A0-4B4D-AD04-40880C7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A74E7-E03A-464F-A408-381A9EE3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8474B-3EC7-4A02-BECA-9F66B16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52A-E806-4674-AAE0-8C3DB99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AEF7-9C57-49B0-9279-4F6E0E5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A7AF1-AC7C-4C69-99BE-6E0E59F8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5911B-9436-428B-961B-1ECD3A2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D9AF2-2BB1-4481-AFA7-B6B9C01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4779C-94D2-4EA3-896B-FF209428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C62C2-D9C2-4653-9D2F-386773E5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1BF48-FB07-45B6-8FAE-88544A86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DD70D-7385-4F7C-9DF5-66F074E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007BA-F66E-4037-BAAA-A5D215A3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EE918-D4A5-4458-B81A-D5FD6C7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BE9AB-8B43-4147-A8FA-663F3777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D21C-A12A-4AE1-A78B-24719CE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140D5-53C4-4AF6-A20C-2EE9BE60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CCF57-74E7-4AEA-BF9C-541BCAA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8779E-4806-48E9-9F5B-EDDC7E0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6F97B-D78E-4578-B6B2-D197A3BD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08D42-FA4F-4473-953D-7D11C40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19054-24DB-448B-99E1-212E7289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449D5-B540-4168-B57E-F8FE6BAC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1FAE8-4B56-45F8-9527-E4DDE785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740B9D-EC19-4FF2-AAEB-F0DD29C3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97844-3D30-4176-84EF-1D1FB987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5CC-0C57-4157-BD04-56A2F6F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C2826-0A8C-487A-97FC-64C8C2F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FCD7F-1AA2-4B32-A1D2-DA55428D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CA6FF-DC7D-4A88-B034-977DA5D1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54104-0035-4892-AB97-3904A7C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2533F-6F8B-4B87-AEAE-114C822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D3BE6-3E34-432C-917D-9E06D69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38284-FA29-41E7-AAB7-D5C1A49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35215-CDAE-46E7-8898-E8B4D677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288C5-0CB7-4D34-B79D-D9F9CBEF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ED336-677F-46FC-986C-8535ED43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439-DA4A-4E09-AABF-B5CD8649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AF6A2-9217-4125-A3F6-3DDF497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1B11C-E13E-4713-96A2-9F42A78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AF823-D828-4115-8314-08E01862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F35D1-D9DC-4DB6-A382-E808E55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58ED5-8203-4803-BE39-B33B49F7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4010A-EE6A-4F72-8A77-3331F2E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FAE01-6ED0-4186-B1ED-B308457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48BA1-B82B-4674-BF49-C167E08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C239B-3F2E-4A8B-9DAE-32F40D52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6A3F4-8F2C-4E87-A478-1EA080F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2810-9A6C-4F63-A434-B3D539E4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E159C-34FC-4973-9541-3228D33E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016AA-F24C-4790-B869-EA7F616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41F0E-DA7A-4BD6-98C9-7D4976C1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DEC4B-5FE6-4716-9CB9-606C1CB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23A0C7-6471-45F4-A10B-BB8EAA0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F13CC-28F0-4F14-A805-B945654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5D5F4-1716-4859-B44C-D4F51BC4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1D88D-49E5-4633-A765-1500881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2D17B-9D99-47CD-B6A3-2491D19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D360D-2A14-44FE-874A-8B81EAB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6D02-6D3D-45A3-B60C-B3F3023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24616-8100-4D4E-AD65-4F6A13F9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03F09-0543-4FC2-9835-2519C9C3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CD1DA-8F09-4F58-8AE2-E264BBA0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B019C-CA1C-4799-A781-D0DB3B3A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EEDA6-3FAE-46A9-B39C-E527D4F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B269E-3521-4926-BD69-F4022F2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595DE-7B72-4A77-8B23-E9C6E67B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E8D51B-B85F-41EA-82DA-8EBBAEAA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84231F-70F9-41E2-97A5-7DC6CA2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C59C8-FDF5-4C91-8745-4AE9291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8370-ABF9-4FF4-94AA-C0022CD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8604B3-AE74-4ABF-A48B-4558F74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18145-84AA-41CF-B16A-39989BC2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718594-A53C-486C-BC2D-C989837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5D853-BB3A-44CD-9B3E-573D6AC3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05987-5DED-4653-A32A-28D6F047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1967E2-9EF3-4105-94D5-DB7D677D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CAA78B-E428-451B-AAB7-E2B61B2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DABE4-7A9D-4B4F-9D26-A599B117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13B50-A6A1-4AC6-B9FD-64B7F727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7AEA7-9AEF-4140-9CBB-636E3C02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70C4-9062-4077-BE0D-C11166C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9E101-13C8-4931-B6D1-65FB1A71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862860-5D8B-4639-923B-2D695896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94DC0A-C222-4A8C-9909-604CC6E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40075-1A09-4A72-AF88-A3A1416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3B29EA-95E6-4758-8A5E-89210C7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2F4C7-785C-400F-BE4E-742B265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19CF6-AC11-486D-A512-6C0227EA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E46ADC-16E2-4883-B097-5E8E776C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3203C2-E028-427E-B817-FF643A6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DCB826-19B2-4C22-9B46-360BD055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F1D5-5CDD-400C-A2D4-E400B31F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776062-9DF1-492A-84F8-097C688F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064E00-6E48-458C-B307-9F1A821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424FF0-9FC4-417D-816A-716FC2D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3A06F-D274-441A-BAB7-6B1D5AB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E7243-CEEA-4795-88BB-214F983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82E14-96DF-4266-A22B-B831DB3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74812-3EB3-4AD6-BDFB-5C00BC3D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AC7344-8E77-49A3-8032-7A9E038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23E3B3-6F27-4405-B7BE-48DB7EF8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32E421-DA03-4C24-9E34-54753B5C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8B6D-F918-4946-8639-1F041FD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AE161F-A173-4B9A-840C-47CEBCB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957587-77EF-43CB-82E6-7239DE2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964FA-8CB0-4864-9D6A-E54C8050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4DB1F-AEFA-4C07-B044-88B35985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43F457-47B1-4D70-8E68-44ADE16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669911-192E-411A-8606-5A663DD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1B0A1F-7769-4321-B5F1-928F111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1AA45B-D72C-4B66-97D1-BEE2D87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A39724-B03D-4006-8B54-1C722C6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3BEA09-5EFF-40AD-94AF-AA6BF229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BEC-D641-40AE-A3F0-4857432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ABFA-D939-4B5E-A37B-B42D6DF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05EC93-DD26-4063-97F8-3F2D164A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51C61-ACAE-4566-8DC8-92518EDD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E750CC-E66E-4CFE-9A99-9E8A97E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631A4-D865-455E-B3AF-A0FD96A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85248C-9261-4A69-BA06-B7C8B05C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1B3CF7-E58A-4350-9EE4-853EE077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454E82-F1A6-4298-845B-20A997E5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79F28D-1E4D-4DF0-8EA0-3B565E8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2A48EC-92DF-4FB7-AB54-39F8ABE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BFD563-7EA6-4ECB-AF79-21F4032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889A-01B3-4227-A8B0-F383FF4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4CA1A-5D14-430B-B19F-9438597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1A3C4C-7195-4FC8-B6B2-CA30C1FC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3A2BC0-4ACE-4AF2-B401-D69B9B7B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FB19A9-3E48-41BA-82C5-A466C05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11D1CC-D812-4ED9-AAF8-EC013AB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6335AB-3A0C-4280-878A-15727090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D86BA8-0B6E-453E-AD88-617EDB2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4E40C0-6FA5-401C-AC45-F04690F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7D9BC9-C327-44FA-8D9B-FAF2367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7439E6-F2CD-4408-8C6E-34C820D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56C5-E951-4FE2-A0F1-A5206ED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69C319-4B8C-4DDE-BED8-E066EE6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D6ECE7-6D22-45DC-A8C1-8A3036B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10020E-6AE7-4BF9-94EB-B77E30A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59A784-B0E9-4CD4-85E0-A1E221CC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C9C17D-3E5C-4462-A0A0-973DEA5B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395CD-6558-46B2-A7B5-86848272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7BFE25-FF1B-4F80-9963-2EB8068A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EC4B9A-192A-4420-87BA-B7EA4818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39E0AB-640C-42A7-8F6D-99659B2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28AB31-81C0-4FA9-9C68-F0E1927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5CC7-5F9E-4EA8-B8AD-3C91CAA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387EDB-99DE-45DA-9072-3688E98E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CF632A-287C-4D7D-8AA2-5E767EF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8ECE1C-E574-476C-9659-BE33F282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9ABEA8-A1C1-48CF-A573-E3B1F71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F30625-8DD2-4E45-B780-13B1FA1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3F1A1D-9210-4E07-A537-10600B28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501F74-FF43-4612-BF83-F6F4F697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4B71A9-8408-4802-8BCC-F0E142E6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F8F8B8-48A9-48FC-9EF4-3E714F6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73809B-EAEE-4F7C-9111-1E679D9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0BF2-61E3-4F31-B04D-1872B3AB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18C3CA-08D8-49BE-ACCC-9812B490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4BA2FD-2347-496D-8C03-295E885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1344C3-D039-4BE6-9482-2B58A0D9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933712-089A-4B42-98A5-42D8850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B65263-9628-43FF-B5A8-E477158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B441B8-50F8-4D71-BA59-70DC5FA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CA5F95-CAFA-47AB-BA69-7E055C67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AB74C5-E5B2-4C69-A6B9-1B46A684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7F4940-F73D-4E28-86B0-D752E7CB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0E2861-EDF2-4E90-9F0A-57E3F7FB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1BA5-02FE-445F-8618-2342EF58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2BB912-7F35-4BD2-B074-2CEBC70E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3D214E-1FBA-445B-A363-2A42042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716B19-DB39-4C50-A9AF-267CF0D0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B55494-BC7F-471E-8461-3CB40662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8104F6-A8C4-4C59-A7CE-4DB563A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BBC546-ABAC-4F7C-8480-0F7CD16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6DBF23-F0AD-496B-9D11-577A470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6BB3CA-7F91-4CA8-AF53-7B7455E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5677CF-F0BB-4AD6-8A3E-B1802CA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F50F99-D2D6-4E02-AB32-6BECAB7E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EF8C-51C9-446B-A846-C07F0DE3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237F33-4BF8-49F7-AEE3-9846B06D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F21709-6F10-437D-9496-9CDF5AD3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52B5A1-0769-44EC-AFBE-8A0E444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13C7C1-8CBF-484C-9DFC-86FBC9D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49039A-92A0-4841-B269-FBE7A24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177A2-CB10-4F04-B49E-23C2EF39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5D1C9A-DC7B-4521-B58B-C8C6430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53D04C-8871-42CB-8B9B-3D60CF2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F98A47-350A-4826-838E-174B58D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1168D1-8E20-4699-93CE-178F9F5D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3887-673C-42FF-9EDF-F1EB5F2B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52F3D9-EBFB-4871-9940-BFA442AC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BF7E2D-16FB-40AC-8F1B-74AB872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D9A315-ED97-4236-A985-74490F5B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7A1A-6B08-4791-BB18-990A6C7B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61F6-B9CB-4F11-A529-0530A41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ED2-43BB-4180-9D3D-B8D5489C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C1F7-AA05-4D06-A794-125C46F2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BDCA-09AB-4AF8-BA3C-64D91900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C5FE-2355-4D40-9E17-7DD5CBD1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795E-9A14-4BEF-99B9-56A8BB87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6414-39EB-46C7-B8C0-A2B476B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BAE7-05B0-44C7-A83E-AC978A4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6D22-ABB6-4422-8EBC-8C65F98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229A-545D-48E0-89E9-2682926B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F060-EE2C-4773-AD03-3CD616B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ACD9-1E7A-4C0B-8C36-536CCB6D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057-F5F8-479E-931B-4121C26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7FA05-1571-4907-BE29-E37A0102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21EC9-7F1D-46BC-8220-814A36C8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650F-BEF0-4058-81C1-308CCD4E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1304-7230-4A98-9424-CC0B542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4FBC-D7E8-4754-A236-702C7526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1CE3-D745-43D1-B3B3-CC6908F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AF11-BDA0-4F0F-A8D0-9F7EEF2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8166-6BF6-46CC-A496-F4CE56B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9C81-8E5A-4FBF-BCB1-76556C3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352DD-CB29-4DF1-B4A8-BD3C8A1A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BD2-790F-454A-BF8D-165A64C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34CA-9511-43A6-9F18-159A573C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B7EF9-E6C4-4741-BAA0-8A276935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319D-C907-41A0-B159-D4E23F4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5577-24CF-4A48-89DF-10B2B8B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BEB2-D201-4B81-A42A-B9464BA0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1A27-6CFC-4EFA-836F-B553111E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7304-6089-4B27-899C-F429AD46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50927-6097-4477-B7C6-ECC7ABE6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6DBE-A376-456B-A011-19AAAAE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70EE6-DAF9-47F7-A43F-5C9D328E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402-507B-46EA-87BA-5CDF9A5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D61B-CC56-4748-8014-B691C918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77F8-BDDC-4F8E-9DBC-EA784B2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C582-7C64-4876-B3F5-B1716A87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BA38-18DC-4ACB-A048-ACEA6F8B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523A-75A1-4A40-A3DF-CF41460D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3B75-E473-45A5-8443-FF84FCE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CED3-2182-42CF-B1ED-F0E358A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8C7A-3671-4819-B3A7-929E8B8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FB91-84DF-4A3C-93D3-731D595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7979A-39F9-4FC2-A6EC-5F8B8BF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2A9-6861-4BEC-A4A6-EB89C956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296C-43A5-4FDD-83B0-6D50BC2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BB0A6-E359-432E-B8CD-ED873F6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8C33-964D-44F3-8473-5EAD670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A30CD-A633-4432-8A82-B978F13B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DFFBF-BBB5-4420-9103-C93747C2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DE21-8935-4D3A-A193-39BB9CD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4A8ED-6E6F-40D8-B271-26737CF1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049A-E1FE-4424-9EC7-C04CF05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F71F-F36C-4BC7-8344-C012EA8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E4F5-A38F-4261-A00A-9F4D596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0F5-25A0-45A2-8602-56E301D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C27B5-AC28-47D2-B9BF-D87BD3B7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1C62E-C55A-4037-A183-B28392F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0629-B04D-436C-AE2F-535E51B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21B9-1F38-4DB2-8E51-45220C3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F89C-310C-40D6-94BD-5EF245F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38BA-2E23-432E-ABEA-72BB2FF8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E138-56F7-4886-A289-C08FFB32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4B107-617B-4747-B61E-D123657E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C048-B6B8-4DB8-9D75-3AD50EA3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1BDB8-32C5-43BC-AB0A-4B80FD9B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00AE-C359-43BE-B8E9-0C0EBA61A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1F3-4B99-44AA-BACD-F76DD2C03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CEC-36A2-447B-A5DC-0FE1BAA72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492-B8AB-4D9A-A000-49A8944EC4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3B8-54ED-4694-868D-93584223F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8A13-EFC5-42DA-B980-1EFA9AEE81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587D-7566-4D1B-A88F-5208CE81E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CFC9-C8B6-4347-B565-28ACC4A23C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2B20-DCC2-48DF-853A-7543A20C0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DA9-1D28-4758-B896-3A7B36AF3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C6B5-AE54-4073-B3BF-87C9AFF776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03C-937F-4459-ADE5-A823135C49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8454-EEC0-40E2-B95B-69AD8F1AD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A0A6-154F-4D6C-979A-09D9482AF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DDCC-6504-4D51-AA56-A4714EDE7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F75-F8B6-44F4-B05B-006029483C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D8F-DFF6-4235-9D3E-FFEAAAEF5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B77-2B28-4868-A205-DD79BA3D6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F80-21FB-43B9-8CB4-570CE69AA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E9B-57B1-491D-B5E6-D8D613E0B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5CA-7DD7-4377-B0C3-4C457D019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9AF-3679-484F-A74B-FBC719CC4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3EA-F0A0-4670-9E00-6B0A24518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0914-F07E-4CEC-BB92-C7C974229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D92-6564-4A56-B06B-0C7241682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0AA-40EF-49FD-B8AA-DE6DC9AD5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7EF-C3CB-41B6-9FA0-68916910E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4C3-25F1-429C-A9A9-C444E1F5C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714-2E85-4E2F-8B9A-6747747D3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754C-516E-465A-988D-1523F7167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499B-771A-4132-90B7-D6C47884A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BBE-1E05-4EB0-8D86-EFFE793B0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843-F92C-4BBE-A0BB-A91CDBE31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022-FF5F-46F2-B143-CB33849CF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B06-4B66-4690-B004-D1A900ABA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246-42AC-40E5-859B-FC8E54F30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44A-8713-4F4D-9C54-EA354233C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E6B-376C-43DE-9E6E-8CD736D9C5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1F13-0289-4710-BB4D-FF5551C36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793C-83F8-4CFA-B173-BBEB0932C9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A68B-7C42-46F2-9984-BE754A193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176-2107-4E4E-93F6-D4AE4E645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00E-8ACC-4F7E-A837-A6F6FA93E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D51A-EB87-456D-A101-EDFAD4168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8697-50B2-4C3F-83E2-6B2B318FD6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B87-3BA7-475C-BF4D-FA7424295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B46-5DED-41B2-BF4A-DFEDCB2FF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E4C-8001-4FF6-9D08-45327409B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282-5538-4D90-B14C-FB04EC9C7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4C95-A8A2-4ED5-AB6D-986E7B9457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3132000" y="1073160"/>
            <a:ext cx="2295720" cy="4190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927520" y="1844640"/>
            <a:ext cx="3085920" cy="497196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4006800" y="6515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图片 132097" descr=""/>
          <p:cNvPicPr/>
          <p:nvPr/>
        </p:nvPicPr>
        <p:blipFill>
          <a:blip r:embed="rId1"/>
          <a:stretch/>
        </p:blipFill>
        <p:spPr>
          <a:xfrm>
            <a:off x="187200" y="735120"/>
            <a:ext cx="8134560" cy="6048360"/>
          </a:xfrm>
          <a:prstGeom prst="rect">
            <a:avLst/>
          </a:prstGeom>
          <a:ln w="0">
            <a:noFill/>
          </a:ln>
        </p:spPr>
      </p:pic>
      <p:sp>
        <p:nvSpPr>
          <p:cNvPr id="1378" name="矩形 132098"/>
          <p:cNvSpPr/>
          <p:nvPr/>
        </p:nvSpPr>
        <p:spPr>
          <a:xfrm>
            <a:off x="1982880" y="3257640"/>
            <a:ext cx="7905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2099"/>
          <p:cNvSpPr/>
          <p:nvPr/>
        </p:nvSpPr>
        <p:spPr>
          <a:xfrm>
            <a:off x="2014560" y="4502160"/>
            <a:ext cx="7905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2100"/>
          <p:cNvSpPr/>
          <p:nvPr/>
        </p:nvSpPr>
        <p:spPr>
          <a:xfrm>
            <a:off x="1325520" y="6350040"/>
            <a:ext cx="5506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1073" descr=""/>
          <p:cNvPicPr/>
          <p:nvPr/>
        </p:nvPicPr>
        <p:blipFill>
          <a:blip r:embed="rId1"/>
          <a:stretch/>
        </p:blipFill>
        <p:spPr>
          <a:xfrm>
            <a:off x="371520" y="782640"/>
            <a:ext cx="8096040" cy="602928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1074"/>
          <p:cNvSpPr/>
          <p:nvPr/>
        </p:nvSpPr>
        <p:spPr>
          <a:xfrm>
            <a:off x="1027080" y="5178600"/>
            <a:ext cx="38847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1075"/>
          <p:cNvSpPr/>
          <p:nvPr/>
        </p:nvSpPr>
        <p:spPr>
          <a:xfrm>
            <a:off x="925560" y="5794200"/>
            <a:ext cx="77994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1076"/>
          <p:cNvSpPr/>
          <p:nvPr/>
        </p:nvSpPr>
        <p:spPr>
          <a:xfrm>
            <a:off x="944640" y="6411960"/>
            <a:ext cx="38844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1077"/>
          <p:cNvSpPr/>
          <p:nvPr/>
        </p:nvSpPr>
        <p:spPr>
          <a:xfrm>
            <a:off x="5167440" y="4460760"/>
            <a:ext cx="39204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1078"/>
          <p:cNvSpPr/>
          <p:nvPr/>
        </p:nvSpPr>
        <p:spPr>
          <a:xfrm>
            <a:off x="5146560" y="4809960"/>
            <a:ext cx="381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79"/>
          <p:cNvSpPr/>
          <p:nvPr/>
        </p:nvSpPr>
        <p:spPr>
          <a:xfrm>
            <a:off x="3687840" y="4460760"/>
            <a:ext cx="39204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80"/>
          <p:cNvSpPr/>
          <p:nvPr/>
        </p:nvSpPr>
        <p:spPr>
          <a:xfrm>
            <a:off x="3666960" y="4809960"/>
            <a:ext cx="381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81"/>
          <p:cNvSpPr/>
          <p:nvPr/>
        </p:nvSpPr>
        <p:spPr>
          <a:xfrm>
            <a:off x="2238480" y="4460760"/>
            <a:ext cx="39204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82"/>
          <p:cNvSpPr/>
          <p:nvPr/>
        </p:nvSpPr>
        <p:spPr>
          <a:xfrm>
            <a:off x="2217600" y="4809960"/>
            <a:ext cx="381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358920" y="885960"/>
            <a:ext cx="8477280" cy="33336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140290" descr=""/>
          <p:cNvPicPr/>
          <p:nvPr/>
        </p:nvPicPr>
        <p:blipFill>
          <a:blip r:embed="rId2"/>
          <a:stretch/>
        </p:blipFill>
        <p:spPr>
          <a:xfrm>
            <a:off x="231840" y="4392720"/>
            <a:ext cx="8477280" cy="216216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1"/>
          <p:cNvSpPr/>
          <p:nvPr/>
        </p:nvSpPr>
        <p:spPr>
          <a:xfrm>
            <a:off x="2198520" y="1830240"/>
            <a:ext cx="6271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2"/>
          <p:cNvSpPr/>
          <p:nvPr/>
        </p:nvSpPr>
        <p:spPr>
          <a:xfrm>
            <a:off x="3051000" y="2313000"/>
            <a:ext cx="627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3"/>
          <p:cNvSpPr/>
          <p:nvPr/>
        </p:nvSpPr>
        <p:spPr>
          <a:xfrm>
            <a:off x="7037280" y="2836800"/>
            <a:ext cx="627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4"/>
          <p:cNvSpPr/>
          <p:nvPr/>
        </p:nvSpPr>
        <p:spPr>
          <a:xfrm>
            <a:off x="1387440" y="3330720"/>
            <a:ext cx="627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5"/>
          <p:cNvSpPr/>
          <p:nvPr/>
        </p:nvSpPr>
        <p:spPr>
          <a:xfrm>
            <a:off x="3400560" y="3813120"/>
            <a:ext cx="626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6"/>
          <p:cNvSpPr/>
          <p:nvPr/>
        </p:nvSpPr>
        <p:spPr>
          <a:xfrm>
            <a:off x="8158320" y="5775480"/>
            <a:ext cx="37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468360" y="863640"/>
            <a:ext cx="8562960" cy="525780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39266"/>
          <p:cNvSpPr/>
          <p:nvPr/>
        </p:nvSpPr>
        <p:spPr>
          <a:xfrm>
            <a:off x="8404200" y="1355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7"/>
          <p:cNvSpPr/>
          <p:nvPr/>
        </p:nvSpPr>
        <p:spPr>
          <a:xfrm>
            <a:off x="8413920" y="2867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3255840" y="451152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6049800" y="451152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70"/>
          <p:cNvSpPr/>
          <p:nvPr/>
        </p:nvSpPr>
        <p:spPr>
          <a:xfrm>
            <a:off x="2803680" y="5097600"/>
            <a:ext cx="318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1"/>
          <p:cNvSpPr/>
          <p:nvPr/>
        </p:nvSpPr>
        <p:spPr>
          <a:xfrm>
            <a:off x="3676680" y="5149800"/>
            <a:ext cx="63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2"/>
          <p:cNvSpPr/>
          <p:nvPr/>
        </p:nvSpPr>
        <p:spPr>
          <a:xfrm>
            <a:off x="7488360" y="5097600"/>
            <a:ext cx="43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8241" descr=""/>
          <p:cNvPicPr/>
          <p:nvPr/>
        </p:nvPicPr>
        <p:blipFill>
          <a:blip r:embed="rId1"/>
          <a:stretch/>
        </p:blipFill>
        <p:spPr>
          <a:xfrm>
            <a:off x="573120" y="861840"/>
            <a:ext cx="8429760" cy="338148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8242"/>
          <p:cNvSpPr/>
          <p:nvPr/>
        </p:nvSpPr>
        <p:spPr>
          <a:xfrm>
            <a:off x="7674120" y="843120"/>
            <a:ext cx="966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3"/>
          <p:cNvSpPr/>
          <p:nvPr/>
        </p:nvSpPr>
        <p:spPr>
          <a:xfrm>
            <a:off x="852480" y="3195720"/>
            <a:ext cx="645336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4"/>
          <p:cNvSpPr/>
          <p:nvPr/>
        </p:nvSpPr>
        <p:spPr>
          <a:xfrm>
            <a:off x="863640" y="3935520"/>
            <a:ext cx="2157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7217" descr=""/>
          <p:cNvPicPr/>
          <p:nvPr/>
        </p:nvPicPr>
        <p:blipFill>
          <a:blip r:embed="rId1"/>
          <a:stretch/>
        </p:blipFill>
        <p:spPr>
          <a:xfrm>
            <a:off x="371520" y="888840"/>
            <a:ext cx="8096040" cy="457200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7218"/>
          <p:cNvSpPr/>
          <p:nvPr/>
        </p:nvSpPr>
        <p:spPr>
          <a:xfrm>
            <a:off x="7684920" y="2816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图片 136193" descr=""/>
          <p:cNvPicPr/>
          <p:nvPr/>
        </p:nvPicPr>
        <p:blipFill>
          <a:blip r:embed="rId1"/>
          <a:stretch/>
        </p:blipFill>
        <p:spPr>
          <a:xfrm>
            <a:off x="235080" y="704880"/>
            <a:ext cx="8115120" cy="6134040"/>
          </a:xfrm>
          <a:prstGeom prst="rect">
            <a:avLst/>
          </a:prstGeom>
          <a:ln w="0">
            <a:noFill/>
          </a:ln>
        </p:spPr>
      </p:pic>
      <p:sp>
        <p:nvSpPr>
          <p:cNvPr id="1357" name="矩形 136194"/>
          <p:cNvSpPr/>
          <p:nvPr/>
        </p:nvSpPr>
        <p:spPr>
          <a:xfrm>
            <a:off x="7613640" y="1963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6195"/>
          <p:cNvSpPr/>
          <p:nvPr/>
        </p:nvSpPr>
        <p:spPr>
          <a:xfrm>
            <a:off x="7634160" y="4502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图片 135169" descr=""/>
          <p:cNvPicPr/>
          <p:nvPr/>
        </p:nvPicPr>
        <p:blipFill>
          <a:blip r:embed="rId1"/>
          <a:stretch/>
        </p:blipFill>
        <p:spPr>
          <a:xfrm>
            <a:off x="204840" y="946080"/>
            <a:ext cx="8124840" cy="4152960"/>
          </a:xfrm>
          <a:prstGeom prst="rect">
            <a:avLst/>
          </a:prstGeom>
          <a:ln w="0">
            <a:noFill/>
          </a:ln>
        </p:spPr>
      </p:pic>
      <p:sp>
        <p:nvSpPr>
          <p:cNvPr id="1360" name="矩形 135170"/>
          <p:cNvSpPr/>
          <p:nvPr/>
        </p:nvSpPr>
        <p:spPr>
          <a:xfrm>
            <a:off x="4971960" y="946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5171"/>
          <p:cNvSpPr/>
          <p:nvPr/>
        </p:nvSpPr>
        <p:spPr>
          <a:xfrm>
            <a:off x="5064120" y="1582560"/>
            <a:ext cx="905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5172"/>
          <p:cNvSpPr/>
          <p:nvPr/>
        </p:nvSpPr>
        <p:spPr>
          <a:xfrm>
            <a:off x="2670120" y="2816280"/>
            <a:ext cx="905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5173"/>
          <p:cNvSpPr/>
          <p:nvPr/>
        </p:nvSpPr>
        <p:spPr>
          <a:xfrm>
            <a:off x="739800" y="4645080"/>
            <a:ext cx="20145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5174"/>
          <p:cNvSpPr/>
          <p:nvPr/>
        </p:nvSpPr>
        <p:spPr>
          <a:xfrm>
            <a:off x="4089240" y="4645080"/>
            <a:ext cx="27957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4145" descr=""/>
          <p:cNvPicPr/>
          <p:nvPr/>
        </p:nvPicPr>
        <p:blipFill>
          <a:blip r:embed="rId1"/>
          <a:stretch/>
        </p:blipFill>
        <p:spPr>
          <a:xfrm>
            <a:off x="719280" y="985680"/>
            <a:ext cx="6867360" cy="427680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4146"/>
          <p:cNvSpPr/>
          <p:nvPr/>
        </p:nvSpPr>
        <p:spPr>
          <a:xfrm>
            <a:off x="831960" y="1593720"/>
            <a:ext cx="2251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47"/>
          <p:cNvSpPr/>
          <p:nvPr/>
        </p:nvSpPr>
        <p:spPr>
          <a:xfrm>
            <a:off x="4079880" y="1593720"/>
            <a:ext cx="2251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4148"/>
          <p:cNvSpPr/>
          <p:nvPr/>
        </p:nvSpPr>
        <p:spPr>
          <a:xfrm>
            <a:off x="873000" y="4748040"/>
            <a:ext cx="22510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49"/>
          <p:cNvSpPr/>
          <p:nvPr/>
        </p:nvSpPr>
        <p:spPr>
          <a:xfrm>
            <a:off x="4149720" y="4737240"/>
            <a:ext cx="2251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3121" descr=""/>
          <p:cNvPicPr/>
          <p:nvPr/>
        </p:nvPicPr>
        <p:blipFill>
          <a:blip r:embed="rId1"/>
          <a:stretch/>
        </p:blipFill>
        <p:spPr>
          <a:xfrm>
            <a:off x="223920" y="885960"/>
            <a:ext cx="8086680" cy="348588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3122"/>
          <p:cNvSpPr/>
          <p:nvPr/>
        </p:nvSpPr>
        <p:spPr>
          <a:xfrm>
            <a:off x="666720" y="3852720"/>
            <a:ext cx="75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3"/>
          <p:cNvSpPr/>
          <p:nvPr/>
        </p:nvSpPr>
        <p:spPr>
          <a:xfrm>
            <a:off x="4468680" y="282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4"/>
          <p:cNvSpPr/>
          <p:nvPr/>
        </p:nvSpPr>
        <p:spPr>
          <a:xfrm>
            <a:off x="4448160" y="3349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5"/>
          <p:cNvSpPr/>
          <p:nvPr/>
        </p:nvSpPr>
        <p:spPr>
          <a:xfrm>
            <a:off x="3648240" y="3370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3126"/>
          <p:cNvSpPr/>
          <p:nvPr/>
        </p:nvSpPr>
        <p:spPr>
          <a:xfrm>
            <a:off x="5229360" y="3359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3127"/>
          <p:cNvSpPr/>
          <p:nvPr/>
        </p:nvSpPr>
        <p:spPr>
          <a:xfrm>
            <a:off x="5208480" y="28144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09:3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